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2751-DEC9-4716-B99E-427EF0164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90CF-C6CE-46C0-8A1E-52FC9CEA5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8B8F-94AB-4134-AF28-AC04B89FD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6248-B082-41CA-9D3A-EA55A648AC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63FE-F0E5-46C2-8F91-4CF13A4260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077C-71D5-415E-B2A2-B2CB993CA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2E68-001B-4C95-AFE3-BDBAA3226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4F18-3128-427A-9777-8DE466F78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131F-971D-474B-86EC-63CA4E9DC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A647-6E2B-48F7-9F99-05DFDD916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E158-46FE-4CD0-B92E-6B4886D0B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5B9F-F617-41D9-AA46-E6EB94943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21560" y="6458040"/>
            <a:ext cx="470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D0FE-DF5A-4F95-BD08-1ED9F15E637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84280" y="56880"/>
            <a:ext cx="7772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incípios do Software de E/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tivos do Software de E/S (1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ência de dis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s podem acessar qualquer dispositivo de E/S sem especificar previamente qual (disquete, disco rígido ou CD-R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leitura de arquivo de entrada independente do tipo de dispositiv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açã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e de um arquivo ou dispositivo pode ser uma cadeia de caracteres ou um número inteiro que é independente do dispos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istema de Arquivos do Unix (montar), os dispositivos são endereçados pelo n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52A4-1E07-49DA-99F5-9744B28047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Programad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3364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resu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dados são copiados para o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O entra em um laço enviando um caractere de cada vez para a saída até que a E/S seja comple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y waiting (espera ociosa) ou p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o fato da CPU verificar continuamente se o dispositivo está pronto para aceitar outro caract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E/S programada é simples porém segura a CPU o tempo todo até que a E/S seja fe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3CD1-66A1-4072-8DF4-96840BCB47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Programad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9320" y="528444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ta de uma cadeia de caracteres para a impressora usando E/S progra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5_7" descr=""/>
          <p:cNvPicPr/>
          <p:nvPr/>
        </p:nvPicPr>
        <p:blipFill>
          <a:blip r:embed="rId1"/>
          <a:stretch/>
        </p:blipFill>
        <p:spPr>
          <a:xfrm>
            <a:off x="590400" y="1717560"/>
            <a:ext cx="7936200" cy="276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6BD6-2756-4E48-A316-BEF2D2BF74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Orientada à interrupçã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3364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o mecanismo de interrup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a impressora está pronta para receber um caractere ela gera uma interrup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PU pode executar outro processo enquanto não são geradas interrup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3786-8B03-41F8-A84A-83CF66FAC1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4280" y="249120"/>
            <a:ext cx="68961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Orientada à Interrupçã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9520" y="4443480"/>
            <a:ext cx="8585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347400" indent="-347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ta de uma cadeia de caracteres para a impressora usando E/S orientada à interrup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303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digo executado quando quando é feita a chamada ao sistema para impr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303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ina de tratamento de interrup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5_8" descr=""/>
          <p:cNvPicPr/>
          <p:nvPr/>
        </p:nvPicPr>
        <p:blipFill>
          <a:blip r:embed="rId1"/>
          <a:stretch/>
        </p:blipFill>
        <p:spPr>
          <a:xfrm>
            <a:off x="857160" y="1498680"/>
            <a:ext cx="7429680" cy="276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FF93-77AE-4259-BDA4-8258BFC2C4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usando DM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3364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vantagem do mecanismo de E/S orientada à interrupção é a ocorrência de uma interrupção para cada caract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ndo DMA alimenta-se os caracteres da para impressora sem que a CPU seja perturb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ontrolador de DMA faz todo o trabal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8043-3287-4E73-A362-8AD58D8DBF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73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Usando DM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8400" y="4152960"/>
            <a:ext cx="877572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essão de uma cadeia de caracteres usando 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digo executado quando quando é feita a chamada ao sistema para impr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ina de tratamento de interrup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5_9" descr=""/>
          <p:cNvPicPr/>
          <p:nvPr/>
        </p:nvPicPr>
        <p:blipFill>
          <a:blip r:embed="rId1"/>
          <a:stretch/>
        </p:blipFill>
        <p:spPr>
          <a:xfrm>
            <a:off x="857160" y="2060640"/>
            <a:ext cx="7429680" cy="145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6352-E9CC-45AB-9BA9-7AA93DD3D9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3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madas do Software de E/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521028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adas do sistema de software de E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5_10" descr=""/>
          <p:cNvPicPr/>
          <p:nvPr/>
        </p:nvPicPr>
        <p:blipFill>
          <a:blip r:embed="rId1"/>
          <a:stretch/>
        </p:blipFill>
        <p:spPr>
          <a:xfrm>
            <a:off x="857160" y="2365200"/>
            <a:ext cx="7429680" cy="21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03E1-5349-43B7-A557-ED81B6877A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2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ratadores de Interrupçã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2760" y="1600200"/>
            <a:ext cx="79200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nterrupções devem ser escondidas o máximo possí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forma de fazer isso é bloqueando o driver que iniciou uma operação de E/S até que uma interrupção notifique que a E/S foi comple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ina de tratamento de interrupção cumpre sua tare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então desbloqueia o driver que a cham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E72F-3603-431D-AC9E-13711C3D54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05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ratadores de Interrupçã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5640" y="799920"/>
            <a:ext cx="866124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ssos que devem ser executados em software depois da interrupção ter sido concluí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lva registradores que ainda não foram salvos pelo hardware de interrup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elece contexto para rotina de tratamento de interrup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elece uma pilha para a rotina de tratamento de interrup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aliza o controlador de interrupção, reabilita as interrupçõ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ia os registradores de onde eles foram salvos para a tabela de proces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6142-572E-48B9-BB98-E5C5569EA7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ratadores de Interrupçã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5640" y="990360"/>
            <a:ext cx="866124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ssos que devem ser executados em software depois da interrupção ter sido concluída(cont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cuta rotina de tratamento de interrup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olhe o próximo processo a execut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elece o contexto da MMU para o próximo processo a execut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ega os registradores do novo proce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eça a executar o novo proce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F82E-E5BF-40CF-879E-4802EA8A98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4280" y="56880"/>
            <a:ext cx="7772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incípios do Software de E/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tivos do Software de E/S (1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amento de 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tar o erro o mais próximo possível do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erro de lei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 do dispos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ssar o erro para as camadas superiores somente se as camadas mais baixas não conseguem resolvê-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ideal é que os níveis superiores não tomem conhecimento dos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C0B4-D2FE-4C4E-B6C5-DBDF401C11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ivers dos disposit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6000" y="1199880"/>
            <a:ext cx="82231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dade de dispositivos de E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emente cada dispositivo precisa de algum código específico do dispositivo para controlá-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ver de dispositivos(Device Drive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 SOs atuais espera-se que os drivers dos dispositivos executem no modo núcl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25B4-07B2-49A3-94F2-8F2BA66450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4520" y="54000"/>
            <a:ext cx="79311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ivers dos Disposit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12880" y="5724360"/>
            <a:ext cx="77724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ção lógica dos drivers dos disposi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5_11" descr=""/>
          <p:cNvPicPr/>
          <p:nvPr/>
        </p:nvPicPr>
        <p:blipFill>
          <a:blip r:embed="rId1"/>
          <a:stretch/>
        </p:blipFill>
        <p:spPr>
          <a:xfrm>
            <a:off x="2000160" y="706320"/>
            <a:ext cx="514368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5B6C-FB75-4734-9D31-8833797F66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ivers dos disposit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580760"/>
            <a:ext cx="7270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itar e executar requisições abstratas  de leitura ou grav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ciar o dis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ar a energia do dis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9C7B-244C-425E-835F-B29E847F16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ivers dos disposit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680" y="12949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tura g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cia verificando a validade dos parâmetros de ent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ução do abstrato para o con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Driver de 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ão de um número de bloco linear em números do cabeçote, trilha, setor e cilindro para a geometria do dis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E8B7-2C5D-4793-BB4D-4B7024FB5A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4400" y="151920"/>
            <a:ext cx="85849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2680" y="5454720"/>
            <a:ext cx="8712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ções do software de E/S independente de dipos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57120" y="1663560"/>
          <a:ext cx="8296200" cy="3311640"/>
        </p:xfrm>
        <a:graphic>
          <a:graphicData uri="http://schemas.openxmlformats.org/drawingml/2006/table">
            <a:tbl>
              <a:tblPr/>
              <a:tblGrid>
                <a:gridCol w="8296200"/>
              </a:tblGrid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 uniforme para os drivers dos dispositiv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azenamento em buf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ório dos er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cação e liberação de dispositivos dedic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necimento de tamanho de bloco independente de disposi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33E3-E71F-48C7-BDA8-4BBE19C984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680" y="15235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Uniforme para os Drivers dos Disposi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s com interfaces diferentes para o sistema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s que têm a mesma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C8F2-467C-437C-A4AD-BAE05EE637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3920" y="17100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5076720"/>
            <a:ext cx="77724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Sem uma interface-padrão do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Com uma interface-padrão do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5_13" descr=""/>
          <p:cNvPicPr/>
          <p:nvPr/>
        </p:nvPicPr>
        <p:blipFill>
          <a:blip r:embed="rId1"/>
          <a:stretch/>
        </p:blipFill>
        <p:spPr>
          <a:xfrm>
            <a:off x="1143000" y="1982880"/>
            <a:ext cx="6858000" cy="28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B02B-34CB-41BE-81C4-6B2229FDEF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8240" y="15235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Uniforme para os Drivers dos Disposi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itivos de E/S nom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independente cuida do mapeamento do nome para o respectivo apropri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são nomeados as regras de proteção aos arquivos são também aplicadas aos dispositivos de E/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34BC-DC7C-4750-A7FD-558C0CFD67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8240" y="1657440"/>
            <a:ext cx="74232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Ler dados de um modem sem buffer 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rocesso do usuário precisa ser iniciado para cada caractere que che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0975-9FD7-4820-B3A8-AFE68C663E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7320" y="158760"/>
            <a:ext cx="883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4912920"/>
            <a:ext cx="90295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ada sem utilização de buffer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5_14" descr=""/>
          <p:cNvPicPr/>
          <p:nvPr/>
        </p:nvPicPr>
        <p:blipFill>
          <a:blip r:embed="rId1"/>
          <a:stretch/>
        </p:blipFill>
        <p:spPr>
          <a:xfrm>
            <a:off x="438120" y="1390680"/>
            <a:ext cx="80010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C1EE-426D-4158-B1A0-806AB35812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84280" y="56880"/>
            <a:ext cx="7772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incípios do Software de E/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tivos do Software de E/S (1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amento de 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tar o erro o mais próximo possível do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amadas_aula_3" descr=""/>
          <p:cNvPicPr/>
          <p:nvPr/>
        </p:nvPicPr>
        <p:blipFill>
          <a:blip r:embed="rId1"/>
          <a:stretch/>
        </p:blipFill>
        <p:spPr>
          <a:xfrm>
            <a:off x="272880" y="3151080"/>
            <a:ext cx="8358480" cy="23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1C2A-CF65-426F-9639-41B9CCBE59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1657440"/>
            <a:ext cx="74232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Ler dados de um modem com um buffer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acteres no processo do usuário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que acontece se um buffer é paginado para o disco quando um caractere cheg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camento na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da no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BBFD-B866-463B-8830-55B3ED2995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7320" y="158760"/>
            <a:ext cx="883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4912920"/>
            <a:ext cx="90295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ção de buffer no espaço do usuário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5_14" descr=""/>
          <p:cNvPicPr/>
          <p:nvPr/>
        </p:nvPicPr>
        <p:blipFill>
          <a:blip r:embed="rId1"/>
          <a:stretch/>
        </p:blipFill>
        <p:spPr>
          <a:xfrm>
            <a:off x="438120" y="1390680"/>
            <a:ext cx="80010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22D1-CBF5-4C40-9DA7-FEA8668B91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8360" y="1542960"/>
            <a:ext cx="80708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Criar um buffer dentro do núcleo e ter um tratador de interrupção colocando os caracteres nele ( c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cheio, a página associada ao buffer do usuário é copiado para a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que acontece com os caracteres que chegam enquanto a página associada ao buffer do usuário está sendo copiada para a memór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CE95-6AF6-489F-BE74-9129F2461B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7320" y="158760"/>
            <a:ext cx="883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4912920"/>
            <a:ext cx="90295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ção de buffer no núcleo seguido de cópia para o  espaço do usuário 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5_14" descr=""/>
          <p:cNvPicPr/>
          <p:nvPr/>
        </p:nvPicPr>
        <p:blipFill>
          <a:blip r:embed="rId1"/>
          <a:stretch/>
        </p:blipFill>
        <p:spPr>
          <a:xfrm>
            <a:off x="438120" y="1390680"/>
            <a:ext cx="80010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2894-79C0-477E-9B07-921E804466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8360" y="1943280"/>
            <a:ext cx="80708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Duplicar os buffers do núcleo ( d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o primeiro está cheio, utiliza-se o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-se os dois de maneira alternada, enquanto um está sendo copiado o outro está recebendo novos caracte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buff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BE92-1C87-4BC9-9382-24CADD07E97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7320" y="158760"/>
            <a:ext cx="883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4912920"/>
            <a:ext cx="90295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ção de buffer duplo no núcleo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5_14" descr=""/>
          <p:cNvPicPr/>
          <p:nvPr/>
        </p:nvPicPr>
        <p:blipFill>
          <a:blip r:embed="rId1"/>
          <a:stretch/>
        </p:blipFill>
        <p:spPr>
          <a:xfrm>
            <a:off x="438120" y="1390680"/>
            <a:ext cx="80010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D5F9-8E32-402D-9248-32F3FB64D2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58360" y="1943280"/>
            <a:ext cx="80708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 apresentar desvantagem: se os dados forem copiados muitas vezes, o desempenho cairá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Uma chamada ao sistema para escrever na 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A3E4-B652-4D23-B9CC-8E0459409B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9200" y="177480"/>
            <a:ext cx="8616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de Dispositiv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0240" y="54817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operação em rede pode envolver muitas cópias de um pac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5_15" descr=""/>
          <p:cNvPicPr/>
          <p:nvPr/>
        </p:nvPicPr>
        <p:blipFill>
          <a:blip r:embed="rId1"/>
          <a:stretch/>
        </p:blipFill>
        <p:spPr>
          <a:xfrm>
            <a:off x="1143000" y="1736640"/>
            <a:ext cx="685800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3E5D-EED6-4D7A-99ED-A81DD5AA1B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58720" y="1847880"/>
            <a:ext cx="704232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ção de bu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s as operações de cópia reduzem a taxa de transmis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passos são executados sequenci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860E-ECFE-49B6-9E64-61A67C066B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58720" y="1847880"/>
            <a:ext cx="76708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ório de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de erros de E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 de 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necimento de endereço inválido de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ficação de um dispositivo inv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itude: Relatar ao processo chamador um código de e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3074-FCF3-4306-BC7F-87C2132F87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tivos do Software de E/S (2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49544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ências Síncronas vs. Assíncr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ências bloqueantes (síncrona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das a interrupção (assíncro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O é responsável por realizar as operações, de fato orientadas à interrupção, parecerem bloqueantes ao sistema do usuá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B7F6-DDEB-4F0F-89FD-0EDCB12EB0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76708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ocação e liberação de dispositivos dedic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s dispositivos podem ser usados por apenas um único processo em um dado mo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na-se necessário mecanismos especiais para requisição e liberação dos me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1ACC-A74C-4D87-8664-9087F21BCB2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Independent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 Dispositivo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manho de bloco independente de disposi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s diferentes podem ter tamanhos diferenciados para os set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necessário fornecer um tamanho uniforme para as camadas sup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oftware independente de dispositivo é responsável por esconder estas diferenç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5B98-34CF-4BE0-B949-879C7603316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a pequena parte do software de E/S é constituída de bibliotecas ligadas aos programas do usuár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hamadas aos sistema, normalmente são feitas por procedimentos de bibli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Um programa em C contém a cham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dor=write(fd, buffer, nbyte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E5A8-C838-4B13-8A77-229C358BDAF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rocedime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á ligado ao programa e estará contido no binário que será armazenado na memória em tempo de exec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 procedimento faz parte do sistema de E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a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am como parte dos programas do usu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B239-FEB5-4546-81C4-8592ADC829F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69560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m todo software de E/S no nível do usuário consiste de procedimentos de bibliote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Impres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processo do usuário poderia abrir o arquivo especial de caractere para a impres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o processo abriu o arquivo e não fez n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E98E-B450-4760-AA08-3A527935BBE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9200" y="1581120"/>
            <a:ext cx="82612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 espe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tório espe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ão de um arqu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 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ca no diretóri de s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aemon imprime os arquivos do dire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BBEB-C0B9-448F-A31D-F36BEFD8AF8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1486080"/>
            <a:ext cx="87948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mo do funcionamento das Camadas de E/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rograma do usuário tenta ler um bloco de um arqu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O é requisitado para realizar a cham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oftware independente do dispositivo procura pelo bloco no cache do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 bloco solicitado não está lá, chama o driver para obtê-lo do dis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0F23-6FA3-4AD2-8C21-216472FFE28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1486080"/>
            <a:ext cx="87948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mo do funcionamento das Camadas de E/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o disco termina, é gerada uma interrup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tratador de interrupção é execu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ém o status do dispositivo e acorda o processo que estava dormindo para finalizar a requisição de E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71E1-BB11-4B2C-8D54-5756030ADC7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7360" y="241200"/>
            <a:ext cx="76197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ftware de E/S no Espaço do Usuári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5428800"/>
            <a:ext cx="80294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adas do sistema de E/S e as principais funções de cada ca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5_16" descr=""/>
          <p:cNvPicPr/>
          <p:nvPr/>
        </p:nvPicPr>
        <p:blipFill>
          <a:blip r:embed="rId1"/>
          <a:stretch/>
        </p:blipFill>
        <p:spPr>
          <a:xfrm>
            <a:off x="476280" y="1560600"/>
            <a:ext cx="8001000" cy="36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1887-A892-4495-B786-F233E9BCB41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tivos do Software de E/S (2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71080"/>
            <a:ext cx="77724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ção do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ção de buffer para armazenamento temporá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s provenientes de um dispositivo muitas vezes não podem ser armazenados diretamente em seu destino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tilização do buffer envolve muitas operações de cópia e gera um impacto significativo no desempenho da E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BCCB-DC79-403F-BF82-CB697A96B7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tivos do Software de E/S (2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6684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Compartilhados vs. Ded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s são compartilhá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ser usados por muitos usuários ao mesmo t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de fita são ded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único usuário pode utilizá-la ao mesmo t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 gerar 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O deve tratar dispositivos compartilhados e dedicados de uma maneira que evite probl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C65C-DC50-499D-B611-8930D8ED38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5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/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7280" y="1615680"/>
            <a:ext cx="777240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istem 3 maneiras de se fazer E/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/S Progra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/S Orientada à interrup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/S usando 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2094-1053-4E65-8C19-E7EFA0CCCF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9640" y="204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Programad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6684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uma maneira muito simples de se fazer E/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 um processo de usuário que quer imprimir a cadeia ‘ABCDEFGH’ na impres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3E59-5BCC-4BFE-8703-6361CE2FED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5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Programada (1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7280" y="573048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os da impressão de uma cadeia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5_6" descr=""/>
          <p:cNvPicPr/>
          <p:nvPr/>
        </p:nvPicPr>
        <p:blipFill>
          <a:blip r:embed="rId1"/>
          <a:stretch/>
        </p:blipFill>
        <p:spPr>
          <a:xfrm>
            <a:off x="857160" y="1976400"/>
            <a:ext cx="7429680" cy="29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A4D1-7B52-438B-ACB8-C125F50D13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00:42:29Z</dcterms:created>
  <dc:creator>Steve  Armstrong</dc:creator>
  <dc:description/>
  <dc:language>en-US</dc:language>
  <cp:lastModifiedBy>MVG</cp:lastModifiedBy>
  <dcterms:modified xsi:type="dcterms:W3CDTF">2004-08-12T21:25:27Z</dcterms:modified>
  <cp:revision>183</cp:revision>
  <dc:subject/>
  <dc:title>Input/Output</dc:title>
</cp:coreProperties>
</file>